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5FE-666A-4D62-9910-39A03FDD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B4-DE28-4A1D-A1CD-4AAD43C1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A46-3650-4122-B8AD-B57DCAAC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F5C-BE1B-42B3-9BB0-5A4BD343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DF9-81EF-4CEC-9363-2884963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F72-5C23-414D-8654-95B934A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6C4-22D6-43D2-8056-1CC4A841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C1F-A440-4923-87CD-339C791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095-9B3B-4556-8DAF-94D0289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16B-399B-44D6-BB8B-5CF8E82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051-1115-447F-9F05-8E92CBC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132-17C8-461C-8044-AF56B54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3555-EB7A-4A60-9C26-B41AB39B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553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246320" cy="18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5029200"/>
            <a:ext cx="5410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d by St. Jud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the 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 became the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of the United States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c &amp; Cam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43000" y="2706840"/>
          <a:ext cx="74674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06840"/>
                    <a:ext cx="74674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ed the country during the American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334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tee &amp; Matt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2263680"/>
            <a:ext cx="30481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3520" y="609120"/>
            <a:ext cx="53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Score"/>
                <a:ea typeface="Times New Roman"/>
              </a:rPr>
              <a:t>He put an end to evil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81080" y="2057400"/>
          <a:ext cx="411984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4119840" cy="2913120"/>
                  </a:xfrm>
                  <a:prstGeom prst="rect">
                    <a:avLst/>
                  </a:prstGeom>
                  <a:ln w="12708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652640" y="57902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00ff"/>
                </a:solidFill>
                <a:latin typeface="BoScore"/>
                <a:ea typeface="Times New Roman"/>
              </a:rPr>
              <a:t>By: Allison and Kar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676520"/>
          <a:ext cx="8869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869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Lincoln was the first president to have a beard. Lincoln was fond of pets, and owed horses, cats, dogs, and a tur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Ben, Evan, and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ryn &amp; Pa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 was president for 4 years      1861-1865, before he was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09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852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768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Lincoln was born on February 12, 1809 in Kentu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6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19051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 &amp; Lu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467" t="6251" r="7032" b="13540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4290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y an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371600" y="228600"/>
            <a:ext cx="6781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Abe Lincoln had one sister Sarah and a brother Thomas who died as a baby.  He also had a step brother and two step sis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by: Anna &amp; E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braham Lincoln left Indiana when he became an adult and made the state of Illinois his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324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y: Hillary and G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360" y="1066680"/>
            <a:ext cx="915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429000" y="12952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hough he had little formal schooling, Abraham Lincoln became a lawy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 &amp; Isaa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Abraham Lincoln love to tell stories and jokes to friends and family.</a:t>
            </a:r>
            <a:br>
              <a:rPr sz="4000"/>
            </a:b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de and Car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990720"/>
          <a:ext cx="9123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23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wife was Mary Todd Lincoln, who came from a very wealthy fami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6278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Lizzie and G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4960" y="1214280"/>
            <a:ext cx="7534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5Z</dcterms:created>
  <dc:creator>Patrick J. Mooney</dc:creator>
  <dc:description/>
  <dc:language>en-US</dc:language>
  <cp:lastModifiedBy>Patrick J. Mooney</cp:lastModifiedBy>
  <dcterms:modified xsi:type="dcterms:W3CDTF">2010-02-09T19:09:32Z</dcterms:modified>
  <cp:revision>10</cp:revision>
  <dc:subject/>
  <dc:title>Slide 1</dc:title>
</cp:coreProperties>
</file>